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771B-EDE8-4099-B025-336312B35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s level of aware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not get every grant that you apply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people are encouraged to write outside 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396F-35A2-416E-B7D4-7DB97EA07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326-D071-481D-8BFA-8B347705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626-B744-43BD-AE3E-AE035937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B82-4D12-4903-AD15-3CCF1451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79C-2111-41BC-A7E8-55263191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BE0D-0801-4AC4-8FBD-D2955244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6A57-1206-4AAD-B4E4-E51346D4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FA80-7D15-4C94-AFA8-4D0C7253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444E-99ED-4E18-AA24-15E31481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4375-81B4-4FFB-8E3C-0B515B4B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987A-5498-42E9-94A7-29F5A999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A5E7-390C-4D0B-9083-85490A41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742-A094-40AE-AE34-5E9DB8F8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8A00-7704-4A83-84FD-E63D9AB2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9061-A87A-43B1-9FD6-61B00A25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C2F5-1667-4D74-BEB5-CB74BFB3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FA39-96D6-4DF2-9A65-BD32E0B1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529A-86E8-4C4A-81EC-2C015F02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A062B-5F13-4FFD-BF50-217DD0B3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03D2-CD1F-43A7-AAE5-6F5A72C5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F5807-A37F-4051-A756-2442DF46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5814C-0497-4280-98C3-4E46E7E2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F8760-C2AC-4EA4-BE89-AF4613F6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F1B-69BC-4798-95AB-5078A6D0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10A1A-DEB2-4DD9-A3D0-03AB9E40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000E0-FE5E-4DB8-A3F8-22E99AAD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41C5A-0D69-43EE-AE9C-408E4346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FA096-DEEE-4C76-8853-E3A80611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17C5-6684-42EB-B433-27D1A348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5AA17-01D8-49F1-9AF1-1E3CD108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8B753-C629-4240-B090-52B5E7B6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E5E4C-C9CB-4AF2-A79E-E076F563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166A7-D29B-4936-B242-9CFA1525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7155D-B142-4B8A-A172-B271CCFD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517-A82A-4BCD-AAC1-3CF0FDBA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771AA-EF85-4167-ABA0-13F4D3E8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224B9-276E-409D-9FFF-AC0913FC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9A1F1-70C1-4DE2-8DDF-C74A9CD6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262E9-F823-426B-AC76-EAE94F92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DB22F-0E2A-4389-8F75-F0402C07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429B6-FD02-4F86-A83D-6A44F8D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38BC8-9F6C-4B81-B841-2D59E3E8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147B7-F000-49BC-B2B5-786A1358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A89A1-0520-402A-BE32-997B3F74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1BD-7DD0-4F98-8407-9A4B14B1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8A9-FF1D-457F-B5B8-673B62F7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42F-BFA4-42FB-A25E-65928738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24DF-22DE-4EBD-A4F2-AC7818DF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10CB-5362-4FAE-BCFB-8C338816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8D7D-99DA-4125-AD6D-09B8148E2A3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CBA0-BC27-4EE4-B4C6-D39B7255909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039F-F965-45A6-AA71-74E6883BF16C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C3DE-C099-44EB-A2AA-AF4070C6826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7BEC-9E83-4FED-9C88-4579A8EC24B9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79E6-2A61-4DDD-85EF-F9651ED3142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322E-D1BF-451B-A51B-9B235B4F7EA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5A8D-C995-4FF1-922B-3178E432EA2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ethinkingstick.com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echtipswcsd.wikispaces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thinkingstick.com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3248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Webster Central School Distric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Futur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6" descr="C:\Users\bgoldamm\AppData\Local\Microsoft\Windows\Temporary Internet Files\Content.IE5\YYB0OU0H\MCj03030390000[1].jpg"/>
          <p:cNvPicPr/>
          <p:nvPr/>
        </p:nvPicPr>
        <p:blipFill>
          <a:blip r:embed="rId2"/>
          <a:stretch/>
        </p:blipFill>
        <p:spPr>
          <a:xfrm>
            <a:off x="6324480" y="4343400"/>
            <a:ext cx="260208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315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By Jeff Utech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www.thethinkingstick.com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20thCentTeacher.jpg"/>
          <p:cNvPicPr/>
          <p:nvPr/>
        </p:nvPicPr>
        <p:blipFill>
          <a:blip r:embed="rId2"/>
          <a:stretch/>
        </p:blipFill>
        <p:spPr>
          <a:xfrm>
            <a:off x="1905120" y="1320840"/>
            <a:ext cx="50799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21</a:t>
            </a:r>
            <a:r>
              <a:rPr b="0" lang="en-US" sz="4900" spc="-1" strike="noStrike" baseline="30000">
                <a:solidFill>
                  <a:srgbClr val="04617b"/>
                </a:solidFill>
                <a:latin typeface="Calibri"/>
              </a:rPr>
              <a:t>st</a:t>
            </a: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 Century Technology Tools</a:t>
            </a:r>
            <a:br>
              <a:rPr sz="4900"/>
            </a:b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Working Smarter </a:t>
            </a:r>
            <a:r>
              <a:rPr b="0" i="1" lang="en-US" sz="4900" spc="-1" strike="noStrike">
                <a:solidFill>
                  <a:srgbClr val="04617b"/>
                </a:solidFill>
                <a:latin typeface="Calibri"/>
              </a:rPr>
              <a:t>NOT</a:t>
            </a: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 Harder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Building While Flying.wmv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PLPs The Fut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9714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lementar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rant Opportunities: Klem South Elem. and beyo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fessional Development on a systemic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martboards: training &amp;confer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qui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legial Learning Circ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Face 2 Face Learning</a:t>
            </a:r>
            <a:br>
              <a:rPr sz="5000"/>
            </a:b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2007-2008   &amp;  2008-2009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econdar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partment Meeting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ead Teacher Meeting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Cs-Professional Learning Commun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ch Talk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-Plann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Video Conferenc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mmittee Meeting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llegial Learning Circ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Tools Wiki: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techtipswcsd.wikispaces.com/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PLPs The Fut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743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istrict Wi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trict-wide groups looking at hiring, purch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inuation of PL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stemic Professional Develop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rant suppo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wareness of the right tool for the right purpo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nk you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lementary Tea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ve Kowalski-Instructional Technology Specialis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ancine Leggett-Enrichment Specialis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eanine Cannioto-Enrichment Specialis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ndy Smith-MST Teach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rin Ells-Curriculum Supervisor LMS-Director of P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y Ann Krog-Elementary Princip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econdary Tea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mily VerHow—Spry Middle Schoo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ulie Bianchi—Willink Middle Schoo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ve Leahy—Schroeder High Schoo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chel Ciesluk—Thomas High Schoo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b Goldammer—Curriculum Supervisor for Ma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4617b"/>
                </a:solidFill>
                <a:latin typeface="Calibri"/>
              </a:rPr>
              <a:t>Thank You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pyrus"/>
              </a:rPr>
              <a:t>Questions??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By Jeff Utech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www.thethinkingstick.com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6" descr="21CentTeacher.jpg"/>
          <p:cNvPicPr/>
          <p:nvPr/>
        </p:nvPicPr>
        <p:blipFill>
          <a:blip r:embed="rId2"/>
          <a:stretch/>
        </p:blipFill>
        <p:spPr>
          <a:xfrm>
            <a:off x="3886200" y="1701720"/>
            <a:ext cx="50799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7:19:57Z</dcterms:created>
  <dc:creator>cshell</dc:creator>
  <dc:description/>
  <dc:language>en-US</dc:language>
  <cp:lastModifiedBy>cshell</cp:lastModifiedBy>
  <dcterms:modified xsi:type="dcterms:W3CDTF">2008-05-21T16:02:47Z</dcterms:modified>
  <cp:revision>29</cp:revision>
  <dc:subject/>
  <dc:title>Powerful Learning Practices</dc:title>
</cp:coreProperties>
</file>